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0BA-E3DD-4F3F-94EF-C44F3709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8DF-EF34-4840-9950-FF601FD4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1C0-BA6B-4425-A87B-AB615802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E7D-EDE3-4E27-B006-23A12053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C62-A47A-46A6-AA67-863991DB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B2F-6FAA-4CD2-BDCA-F6913906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1F1-7D65-4F33-9AB8-5D366D9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B4F-39EF-4C4F-9587-DE64B321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C3C-74A3-4E97-BE60-913EB07E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D7A-579E-4907-AD9D-2E245008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4A9-EBAF-4F54-9812-D32AC7E3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CBA-576F-4077-AE21-9DBAB618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909-2D41-4786-8325-1174EE7E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Science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roo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use numbers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ventions (spelling, punctuation, sentences, paragra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38680000[1]"/>
          <p:cNvPicPr/>
          <p:nvPr/>
        </p:nvPicPr>
        <p:blipFill>
          <a:blip r:embed="rId1"/>
          <a:stretch/>
        </p:blipFill>
        <p:spPr>
          <a:xfrm>
            <a:off x="3886200" y="990720"/>
            <a:ext cx="5105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quired 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reen duo-tangs (Notebook, Journal, Lab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harpened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shar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, Tissue, Org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nd use cla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ist the “7 Characteristics of Living Th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parts of  “7 Characteristics of Living Th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9:38:08Z</dcterms:created>
  <dc:creator>nbdoe</dc:creator>
  <dc:description/>
  <dc:language>en-US</dc:language>
  <cp:lastModifiedBy>ladmin</cp:lastModifiedBy>
  <dcterms:modified xsi:type="dcterms:W3CDTF">2015-01-26T02:05:12Z</dcterms:modified>
  <cp:revision>25</cp:revision>
  <dc:subject/>
  <dc:title>Slide 1</dc:title>
</cp:coreProperties>
</file>